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3D6F-CE27-4D24-B8C7-4C9D9CB02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79320" y="4130640"/>
            <a:ext cx="7778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00FD-88A4-4847-8D05-B7C3E0767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9320" y="413064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705A-69C0-4F4F-A0FD-2011FBE4F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2504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09480" y="1981080"/>
            <a:ext cx="2504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39640" y="1981080"/>
            <a:ext cx="2504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79320" y="4130640"/>
            <a:ext cx="2504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09480" y="4130640"/>
            <a:ext cx="2504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39640" y="4130640"/>
            <a:ext cx="2504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C633-8809-40AB-943E-7CC9291D9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927D6-29F6-44AC-9DCC-7A5B8D966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1616B-AAD9-47AF-B3A0-8C7DA8802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1D9BD-DF74-4E39-B477-8F9CC1D25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3795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5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41C2A-5003-4310-82D4-EA7391D7E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81D47-99B5-4DA9-BE32-DE155051F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7932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9DD0E-C3A3-426B-9D37-1BE2AD0D5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5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79320" y="413064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7AD08-22FF-4FD7-963A-BA3E44F19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07AA-771B-49BA-B80E-D01F1F2ED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3795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284F3-215E-466D-A07B-CAB91C520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79320" y="4130640"/>
            <a:ext cx="7778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9AFAA-742D-497B-8844-58FB59991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79320" y="4130640"/>
            <a:ext cx="7778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DA591-2DC3-4247-9441-3E3052856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79320" y="413064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2E6E3-CA9C-4F45-8466-69A5CA9B4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2504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09480" y="1981080"/>
            <a:ext cx="2504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39640" y="1981080"/>
            <a:ext cx="2504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79320" y="4130640"/>
            <a:ext cx="2504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09480" y="4130640"/>
            <a:ext cx="2504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39640" y="4130640"/>
            <a:ext cx="2504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36529-9836-4370-9A0A-7C108E2FE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EF99-CC7F-4B80-8EA8-FBD8CA565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3795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5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2F05-49D6-47CA-8C2D-CFC62E1B1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E792-A7C0-43B2-B2C7-62D4E6101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7932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27D4-73AC-4DB7-A897-EB4F538C3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5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79320" y="413064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25F9-A232-44B2-90E8-EA52FC72A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3795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E82A-FEF6-4B0D-8E97-D6DCCEA52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79320" y="4130640"/>
            <a:ext cx="7778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3F2B-448A-41C2-9978-FECC80CFE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79440" y="303120"/>
            <a:ext cx="8386560" cy="6175440"/>
            <a:chOff x="379440" y="303120"/>
            <a:chExt cx="8386560" cy="6175440"/>
          </a:xfrm>
        </p:grpSpPr>
        <p:sp>
          <p:nvSpPr>
            <p:cNvPr id="1" name=""/>
            <p:cNvSpPr/>
            <p:nvPr/>
          </p:nvSpPr>
          <p:spPr>
            <a:xfrm>
              <a:off x="380880" y="304920"/>
              <a:ext cx="8382240" cy="61722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79440" y="303120"/>
              <a:ext cx="230040" cy="6174000"/>
            </a:xfrm>
            <a:custGeom>
              <a:avLst/>
              <a:gdLst/>
              <a:ahLst/>
              <a:rect l="l" t="t" r="r" b="b"/>
              <a:pathLst>
                <a:path w="145" h="3889">
                  <a:moveTo>
                    <a:pt x="0" y="0"/>
                  </a:moveTo>
                  <a:lnTo>
                    <a:pt x="144" y="144"/>
                  </a:lnTo>
                  <a:lnTo>
                    <a:pt x="144" y="3744"/>
                  </a:lnTo>
                  <a:lnTo>
                    <a:pt x="0" y="3888"/>
                  </a:lnTo>
                  <a:lnTo>
                    <a:pt x="0" y="0"/>
                  </a:lnTo>
                </a:path>
              </a:pathLst>
            </a:custGeom>
            <a:solidFill>
              <a:srgbClr val="0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79440" y="303120"/>
              <a:ext cx="8383680" cy="230400"/>
            </a:xfrm>
            <a:custGeom>
              <a:avLst/>
              <a:gdLst/>
              <a:ahLst/>
              <a:rect l="l" t="t" r="r" b="b"/>
              <a:pathLst>
                <a:path w="5281" h="145">
                  <a:moveTo>
                    <a:pt x="0" y="0"/>
                  </a:moveTo>
                  <a:lnTo>
                    <a:pt x="144" y="144"/>
                  </a:lnTo>
                  <a:lnTo>
                    <a:pt x="5136" y="144"/>
                  </a:lnTo>
                  <a:lnTo>
                    <a:pt x="5280" y="0"/>
                  </a:lnTo>
                  <a:lnTo>
                    <a:pt x="0" y="0"/>
                  </a:lnTo>
                </a:path>
              </a:pathLst>
            </a:custGeom>
            <a:solidFill>
              <a:srgbClr val="0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535960" y="303120"/>
              <a:ext cx="230040" cy="6174000"/>
            </a:xfrm>
            <a:custGeom>
              <a:avLst/>
              <a:gdLst/>
              <a:ahLst/>
              <a:rect l="l" t="t" r="r" b="b"/>
              <a:pathLst>
                <a:path w="145" h="3889">
                  <a:moveTo>
                    <a:pt x="144" y="0"/>
                  </a:moveTo>
                  <a:lnTo>
                    <a:pt x="0" y="144"/>
                  </a:lnTo>
                  <a:lnTo>
                    <a:pt x="0" y="3744"/>
                  </a:lnTo>
                  <a:lnTo>
                    <a:pt x="144" y="3888"/>
                  </a:lnTo>
                  <a:lnTo>
                    <a:pt x="144" y="0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80880" y="6248520"/>
              <a:ext cx="8383680" cy="230040"/>
            </a:xfrm>
            <a:custGeom>
              <a:avLst/>
              <a:gdLst/>
              <a:ahLst/>
              <a:rect l="l" t="t" r="r" b="b"/>
              <a:pathLst>
                <a:path w="5281" h="145">
                  <a:moveTo>
                    <a:pt x="5280" y="144"/>
                  </a:moveTo>
                  <a:lnTo>
                    <a:pt x="5136" y="0"/>
                  </a:lnTo>
                  <a:lnTo>
                    <a:pt x="144" y="0"/>
                  </a:lnTo>
                  <a:lnTo>
                    <a:pt x="0" y="144"/>
                  </a:lnTo>
                  <a:lnTo>
                    <a:pt x="5280" y="144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34960" y="457200"/>
              <a:ext cx="77760" cy="4192560"/>
            </a:xfrm>
            <a:custGeom>
              <a:avLst/>
              <a:gdLst/>
              <a:ahLst/>
              <a:rect l="l" t="t" r="r" b="b"/>
              <a:pathLst>
                <a:path w="49" h="2641">
                  <a:moveTo>
                    <a:pt x="48" y="2640"/>
                  </a:moveTo>
                  <a:lnTo>
                    <a:pt x="0" y="0"/>
                  </a:lnTo>
                  <a:lnTo>
                    <a:pt x="48" y="47"/>
                  </a:lnTo>
                  <a:lnTo>
                    <a:pt x="48" y="264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33520" y="457200"/>
              <a:ext cx="5564160" cy="77760"/>
            </a:xfrm>
            <a:custGeom>
              <a:avLst/>
              <a:gdLst/>
              <a:ahLst/>
              <a:rect l="l" t="t" r="r" b="b"/>
              <a:pathLst>
                <a:path w="3505" h="49">
                  <a:moveTo>
                    <a:pt x="3504" y="48"/>
                  </a:moveTo>
                  <a:lnTo>
                    <a:pt x="1" y="0"/>
                  </a:lnTo>
                  <a:lnTo>
                    <a:pt x="0" y="48"/>
                  </a:lnTo>
                  <a:lnTo>
                    <a:pt x="3504" y="4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99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D4AB0-9519-4507-9FC5-595C7DA129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379440" y="303120"/>
            <a:ext cx="8386560" cy="6175440"/>
            <a:chOff x="379440" y="303120"/>
            <a:chExt cx="8386560" cy="6175440"/>
          </a:xfrm>
        </p:grpSpPr>
        <p:grpSp>
          <p:nvGrpSpPr>
            <p:cNvPr id="50" name=""/>
            <p:cNvGrpSpPr/>
            <p:nvPr/>
          </p:nvGrpSpPr>
          <p:grpSpPr>
            <a:xfrm>
              <a:off x="379440" y="303120"/>
              <a:ext cx="8386560" cy="6175440"/>
              <a:chOff x="379440" y="303120"/>
              <a:chExt cx="8386560" cy="6175440"/>
            </a:xfrm>
          </p:grpSpPr>
          <p:sp>
            <p:nvSpPr>
              <p:cNvPr id="51" name=""/>
              <p:cNvSpPr/>
              <p:nvPr/>
            </p:nvSpPr>
            <p:spPr>
              <a:xfrm>
                <a:off x="380880" y="304920"/>
                <a:ext cx="8382240" cy="617220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379440" y="303120"/>
                <a:ext cx="230040" cy="6174000"/>
              </a:xfrm>
              <a:custGeom>
                <a:avLst/>
                <a:gdLst/>
                <a:ahLst/>
                <a:rect l="l" t="t" r="r" b="b"/>
                <a:pathLst>
                  <a:path w="145" h="3889">
                    <a:moveTo>
                      <a:pt x="0" y="0"/>
                    </a:moveTo>
                    <a:lnTo>
                      <a:pt x="144" y="144"/>
                    </a:lnTo>
                    <a:lnTo>
                      <a:pt x="144" y="3744"/>
                    </a:lnTo>
                    <a:lnTo>
                      <a:pt x="0" y="38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379440" y="303120"/>
                <a:ext cx="8383680" cy="230400"/>
              </a:xfrm>
              <a:custGeom>
                <a:avLst/>
                <a:gdLst/>
                <a:ahLst/>
                <a:rect l="l" t="t" r="r" b="b"/>
                <a:pathLst>
                  <a:path w="5281" h="145">
                    <a:moveTo>
                      <a:pt x="0" y="0"/>
                    </a:moveTo>
                    <a:lnTo>
                      <a:pt x="144" y="144"/>
                    </a:lnTo>
                    <a:lnTo>
                      <a:pt x="5136" y="144"/>
                    </a:lnTo>
                    <a:lnTo>
                      <a:pt x="528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535960" y="303120"/>
                <a:ext cx="230040" cy="6174000"/>
              </a:xfrm>
              <a:custGeom>
                <a:avLst/>
                <a:gdLst/>
                <a:ahLst/>
                <a:rect l="l" t="t" r="r" b="b"/>
                <a:pathLst>
                  <a:path w="145" h="3889">
                    <a:moveTo>
                      <a:pt x="144" y="0"/>
                    </a:moveTo>
                    <a:lnTo>
                      <a:pt x="0" y="144"/>
                    </a:lnTo>
                    <a:lnTo>
                      <a:pt x="0" y="3744"/>
                    </a:lnTo>
                    <a:lnTo>
                      <a:pt x="144" y="3888"/>
                    </a:lnTo>
                    <a:lnTo>
                      <a:pt x="144" y="0"/>
                    </a:lnTo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380880" y="6248520"/>
                <a:ext cx="8383680" cy="230040"/>
              </a:xfrm>
              <a:custGeom>
                <a:avLst/>
                <a:gdLst/>
                <a:ahLst/>
                <a:rect l="l" t="t" r="r" b="b"/>
                <a:pathLst>
                  <a:path w="5281" h="145">
                    <a:moveTo>
                      <a:pt x="5280" y="144"/>
                    </a:moveTo>
                    <a:lnTo>
                      <a:pt x="5136" y="0"/>
                    </a:lnTo>
                    <a:lnTo>
                      <a:pt x="144" y="0"/>
                    </a:lnTo>
                    <a:lnTo>
                      <a:pt x="0" y="144"/>
                    </a:lnTo>
                    <a:lnTo>
                      <a:pt x="5280" y="144"/>
                    </a:lnTo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534960" y="457200"/>
              <a:ext cx="77760" cy="4192560"/>
            </a:xfrm>
            <a:custGeom>
              <a:avLst/>
              <a:gdLst/>
              <a:ahLst/>
              <a:rect l="l" t="t" r="r" b="b"/>
              <a:pathLst>
                <a:path w="49" h="2641">
                  <a:moveTo>
                    <a:pt x="48" y="2640"/>
                  </a:moveTo>
                  <a:lnTo>
                    <a:pt x="0" y="0"/>
                  </a:lnTo>
                  <a:lnTo>
                    <a:pt x="48" y="47"/>
                  </a:lnTo>
                  <a:lnTo>
                    <a:pt x="48" y="264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33520" y="457200"/>
              <a:ext cx="5564160" cy="77760"/>
            </a:xfrm>
            <a:custGeom>
              <a:avLst/>
              <a:gdLst/>
              <a:ahLst/>
              <a:rect l="l" t="t" r="r" b="b"/>
              <a:pathLst>
                <a:path w="3505" h="49">
                  <a:moveTo>
                    <a:pt x="3504" y="48"/>
                  </a:moveTo>
                  <a:lnTo>
                    <a:pt x="1" y="0"/>
                  </a:lnTo>
                  <a:lnTo>
                    <a:pt x="0" y="48"/>
                  </a:lnTo>
                  <a:lnTo>
                    <a:pt x="3504" y="4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99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487FE-2E14-4DF0-9764-3BDE7179C5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A Remnant Shall Retur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Quarter 8, Lesson 1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g. 64-69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aniel 7, 9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Daniel’s Dreams and Vision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ll of events of the next three empires after Daniel’s d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refore, skeptics deny that Daniel could have written this in his d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lievers in God, know that He Can and Did often tell the future – as only the true God can 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imes New Roman"/>
              </a:rPr>
              <a:t>The First Vision in 1</a:t>
            </a:r>
            <a:r>
              <a:rPr b="0" lang="en-US" sz="4000" spc="-1" strike="noStrike" baseline="30000">
                <a:solidFill>
                  <a:srgbClr val="ffcc00"/>
                </a:solidFill>
                <a:latin typeface="Times New Roman"/>
              </a:rPr>
              <a:t>st</a:t>
            </a:r>
            <a:r>
              <a:rPr b="0" lang="en-US" sz="4000" spc="-1" strike="noStrike">
                <a:solidFill>
                  <a:srgbClr val="ffcc00"/>
                </a:solidFill>
                <a:latin typeface="Times New Roman"/>
              </a:rPr>
              <a:t> Year of Belshazzar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aniel 7:1-14 – First Vision of Dani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lion-like beast – 1-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bear-like beast – 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leopard-like beast – 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10-horned beast -7-8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ncient One –(God) -9-1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Son – given an eternal kingdom -13-1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ircle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imes New Roman"/>
              </a:rPr>
              <a:t>The First Vision in 1</a:t>
            </a:r>
            <a:r>
              <a:rPr b="0" lang="en-US" sz="4000" spc="-1" strike="noStrike" baseline="30000">
                <a:solidFill>
                  <a:srgbClr val="ffcc00"/>
                </a:solidFill>
                <a:latin typeface="Times New Roman"/>
              </a:rPr>
              <a:t>st</a:t>
            </a:r>
            <a:r>
              <a:rPr b="0" lang="en-US" sz="4000" spc="-1" strike="noStrike">
                <a:solidFill>
                  <a:srgbClr val="ffcc00"/>
                </a:solidFill>
                <a:latin typeface="Times New Roman"/>
              </a:rPr>
              <a:t> Year of Belshazzar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n. 7:15-28 – The Interpretation of Vi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f the four beasts in general – 15-1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ir rise: Babylon, Persia, Greece, &amp; Ro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ir replacement: vs.18 – God’s glorious kingd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f the fourth beast in particular – 19-2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aniel’s confusion about it – 19-2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od’s clarification of it – 23-2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aniel’s reaction to it - 2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ircle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imes New Roman"/>
              </a:rPr>
              <a:t>The Prayer and Third Vision of Daniel, in the First Year of Darius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aniel 9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70 Years of Jeremiah’s prophecy are calculated by Daniel as almost over -1-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aniel’s Prayer for Israel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viewing Israel’s sin – 3-1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viewing Israel’s suffering – 12-1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questing forgiveness and restoration -15-19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ircle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imes New Roman"/>
              </a:rPr>
              <a:t>The Prayer and Third Vision of Daniel, in the First Year of Darius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niel 9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70 Years of Jeremiah’s prophecy are calculated by Daniel as almost over -1-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abriel helps Daniel See A Future Involving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Rebuilding of Jerusalem -9:2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Coming Messiah, His Crucifixion -2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d A Permanent, Terrible End to Jerusalem -2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ircle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8T17:22:26Z</dcterms:created>
  <dc:creator> Tab Vines</dc:creator>
  <dc:description/>
  <dc:language>en-US</dc:language>
  <cp:lastModifiedBy> Tab Vines</cp:lastModifiedBy>
  <dcterms:modified xsi:type="dcterms:W3CDTF">2006-01-28T18:17:59Z</dcterms:modified>
  <cp:revision>2</cp:revision>
  <dc:subject/>
  <dc:title>A Remnant Shall Return</dc:title>
</cp:coreProperties>
</file>